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1C9B-42C7-4243-9DC4-557F9093A8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6CE7-5C19-46F9-B9B2-9589A9A1593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4342-0757-41B0-B3A6-580A3A84372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2B37-EDB5-4142-9729-2439B757F88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0986-1495-4E32-BB20-5143E3D4CA1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041A-4F88-48F5-BF49-F9F20C9B1E9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3F80-EF0F-474B-B35A-9AF1AF62D5F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3672-C067-489D-A833-D96B76840C7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C32C-8FD1-4667-956B-2D8B2309282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1C08-827A-490E-A525-23AB6102B4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CAA3-C786-4822-9CD3-6F48D043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7D4F-E47F-45B2-9222-1C07DEAB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6233-3482-49D7-A9E4-84EF4AA75C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B1C2-EF2E-48C5-BA91-3FAA5EAA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787C-7048-42BE-8D1A-25F127D7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2AEB-3B69-47E5-84D8-B4E3FCB3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D3E7-19E8-4BB2-90C8-0B157BEB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D49F-143E-4F85-93A7-E2B32A7B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D3DB-F2E7-4A62-A8B9-DCDC456A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3C1E-D7C9-4CAD-AA3F-9987BE14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0975-0FE9-47FC-AAA1-F3ACEFC0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C1BD-ED5D-4C69-988C-2E939A3799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六节  黄 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经典繁行书"/>
                <a:ea typeface="黑体"/>
              </a:rPr>
              <a:t>溶血性黄疸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先天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膜缺陷（遗传性球形红细胞增多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酶缺乏（葡萄糖</a:t>
            </a:r>
            <a:r>
              <a:rPr b="0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-6-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磷酸脱氢酶缺乏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获得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自身免疫性贫血、异型输血后溶血、新生儿溶血症、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恶性疟疾、药物或毒物（如蛇毒）引起的溶血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4" name="Picture 2" descr="遗传性球形细胞增多症"/>
          <p:cNvPicPr/>
          <p:nvPr/>
        </p:nvPicPr>
        <p:blipFill>
          <a:blip r:embed="rId1"/>
          <a:stretch/>
        </p:blipFill>
        <p:spPr>
          <a:xfrm>
            <a:off x="1476360" y="119700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77080" y="1412640"/>
            <a:ext cx="504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黑体"/>
              </a:rPr>
              <a:t>遗传性球形红细胞增多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7" name="Picture 2" descr="蚕豆"/>
          <p:cNvPicPr/>
          <p:nvPr/>
        </p:nvPicPr>
        <p:blipFill>
          <a:blip r:embed="rId1"/>
          <a:stretch/>
        </p:blipFill>
        <p:spPr>
          <a:xfrm>
            <a:off x="5219640" y="3789360"/>
            <a:ext cx="2881440" cy="19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蚕豆病"/>
          <p:cNvPicPr/>
          <p:nvPr/>
        </p:nvPicPr>
        <p:blipFill>
          <a:blip r:embed="rId2"/>
          <a:stretch/>
        </p:blipFill>
        <p:spPr>
          <a:xfrm>
            <a:off x="1763640" y="1557360"/>
            <a:ext cx="2833920" cy="4292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1640" y="1628640"/>
            <a:ext cx="4321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蚕豆病（葡萄糖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-6-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磷酸脱氢酶缺乏症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84" name="Picture 3" descr="溶血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2411280" y="6164640"/>
            <a:ext cx="3961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溶血性黄疸发生机制示意图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859280" y="19890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4427640" y="2133720"/>
            <a:ext cx="1066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cap="sq" w="19080">
                  <a:solidFill>
                    <a:srgbClr val="046ca6"/>
                  </a:solidFill>
                  <a:miter/>
                </a:ln>
                <a:solidFill>
                  <a:srgbClr val="046ca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量破坏</a:t>
            </a:r>
            <a:endParaRPr b="1" lang="en-US" sz="2000" spc="1" strike="noStrike">
              <a:ln cap="sq" w="19080">
                <a:solidFill>
                  <a:srgbClr val="046ca6"/>
                </a:solidFill>
                <a:miter/>
              </a:ln>
              <a:solidFill>
                <a:srgbClr val="046ca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79280" y="4149720"/>
            <a:ext cx="2089080" cy="1943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粪胆原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2556000" y="234936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485928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5364000" y="54468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774072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7308720" y="836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animClr clrSpc="rgb">
                                      <p:cBhvr>
                                        <p:cTn id="7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set>
                                      <p:cBhvr>
                                        <p:cTn id="8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2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3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7572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溶血性黄疸：黄疸较轻，皮肤呈浅柠檬色，不伴皮肤瘙痒，粪便颜色加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急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高热、寒战、头痛、腰背痛、血红蛋白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慢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贫血、黄疸、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加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非结合胆红素增高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结合胆红素正常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尿结合胆红素（</a:t>
            </a:r>
            <a:r>
              <a:rPr b="0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），粪胆原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肝细胞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最常见病因：病毒性肝炎（甲、乙、丙、丁、戊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他肝炎：酒精肝、药物肝、脂肪肝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硬化、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黄疸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黄疸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正常胆红素代谢的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举例说明不同类型黄疸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不同类型黄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黄疸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黄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16" name="Picture 3" descr="肝细胞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2627280" y="616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肝细胞性黄疸发生机制示意图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95280" y="4365720"/>
            <a:ext cx="1655640" cy="115092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7236000" y="549360"/>
            <a:ext cx="1728720" cy="115236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987640" y="4076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ff33"/>
                </a:solidFill>
                <a:latin typeface="Arial"/>
              </a:rPr>
              <a:t>肝受损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1" name="Line 7"/>
          <p:cNvSpPr/>
          <p:nvPr/>
        </p:nvSpPr>
        <p:spPr>
          <a:xfrm flipV="1">
            <a:off x="2627280" y="191628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2" name="Line 8"/>
          <p:cNvSpPr/>
          <p:nvPr/>
        </p:nvSpPr>
        <p:spPr>
          <a:xfrm flipV="1">
            <a:off x="8893080" y="335772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小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4" descr="e1fe9925bc315c607bc819cc8db1cb1348540923dd54578f"/>
          <p:cNvPicPr/>
          <p:nvPr/>
        </p:nvPicPr>
        <p:blipFill>
          <a:blip r:embed="rId1"/>
          <a:stretch/>
        </p:blipFill>
        <p:spPr>
          <a:xfrm>
            <a:off x="539640" y="1628640"/>
            <a:ext cx="75056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细胞性黄疸：皮肤、黏膜浅黄至深黄不等，可伴有乏力、恶心、呕吐、食欲减退、腹胀、肝区胀痛及其他原发病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非结合胆红素、结合胆红素均增加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4360" y="3168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胆汁淤积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046ca6"/>
                </a:solidFill>
                <a:latin typeface="Tahoma"/>
                <a:ea typeface="黑体"/>
              </a:rPr>
              <a:t>内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胆汁淤积性肝炎，原发性胆汁型肝硬化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肝内泥沙样结石、寄生虫和癌栓等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外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胆总管结石、蛔虫、炎症、癌肿等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壶腹周围癌、胰头癌、肝癌等压迫胆管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1403280" y="3789360"/>
            <a:ext cx="1513080" cy="576360"/>
          </a:xfrm>
          <a:prstGeom prst="wedgeRoundRectCallout">
            <a:avLst>
              <a:gd name="adj1" fmla="val -40240"/>
              <a:gd name="adj2" fmla="val 100138"/>
              <a:gd name="adj3" fmla="val 16667"/>
            </a:avLst>
          </a:prstGeom>
          <a:solidFill>
            <a:srgbClr val="99cc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外科黄疸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52" name="Picture 3" descr="梗阻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2627280" y="6312240"/>
            <a:ext cx="396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梗阻性黄疸发生机制示意图</a:t>
            </a: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076720" y="422100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Arial"/>
                <a:ea typeface="隶书"/>
              </a:rPr>
              <a:t>胆道梗阻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7308720" y="333360"/>
            <a:ext cx="1835280" cy="122400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或消失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红素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611280" y="4581360"/>
            <a:ext cx="1655640" cy="1151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8188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思考：患者出现了什么</a:t>
            </a:r>
            <a:r>
              <a:rPr b="1" lang="zh-CN" sz="3600" spc="-1" strike="noStrike">
                <a:solidFill>
                  <a:srgbClr val="ddb523"/>
                </a:solidFill>
                <a:latin typeface="Verdana"/>
              </a:rPr>
              <a:t>症状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4" descr="黄疸"/>
          <p:cNvPicPr/>
          <p:nvPr/>
        </p:nvPicPr>
        <p:blipFill>
          <a:blip r:embed="rId1"/>
          <a:stretch/>
        </p:blipFill>
        <p:spPr>
          <a:xfrm>
            <a:off x="0" y="1557360"/>
            <a:ext cx="4788000" cy="50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皮肤黄疸314"/>
          <p:cNvPicPr/>
          <p:nvPr/>
        </p:nvPicPr>
        <p:blipFill>
          <a:blip r:embed="rId2"/>
          <a:stretch/>
        </p:blipFill>
        <p:spPr>
          <a:xfrm>
            <a:off x="4859280" y="1557360"/>
            <a:ext cx="4211640" cy="5013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964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胆汁淤积性黄疸：黄疸程度较重，皮肤呈暗黄色，完全梗阻者可呈黄绿色，甚至绿褐色，并伴有皮肤瘙痒、尿色深、粪便颜色变浅或呈白陶土色。腹泻、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高，结合胆红素增高为主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），尿胆原粪胆素减少或缺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059280" y="34452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附录：三种黄疸实验室检查的区别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453960" y="162864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8040" y="177336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项目                  溶血性                肝细胞性               胆汁淤积性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B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UCB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/TB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0%                   20%~60%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60%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红素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原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轻度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或消失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685800" y="6843600"/>
            <a:ext cx="845820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30280" y="2205000"/>
            <a:ext cx="8305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392040" y="451008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诊断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确定有无黄疸：通过看皮肤、黏膜与巩膜有无黄染、程度和分布范围。注意与假性黄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黄疸的程度：粪、尿颜色、皮肤色泽及深浅、是否伴有瘙痒及其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对功能性健康型态的影响：皮肤、形象、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体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舒适度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患者，男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岁。粪便呈现灰白色，伴身黄、尿黄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天入院。入院前曾疑为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毒性肝炎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某院住院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分析：该病考虑哪一型黄疸？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答：梗阻性黄疸。</a:t>
            </a:r>
            <a:br>
              <a:rPr sz="2800"/>
            </a:br>
            <a:r>
              <a:rPr b="0" lang="zh-CN" sz="2800" spc="-1" strike="noStrike">
                <a:solidFill>
                  <a:srgbClr val="9696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70000" y="1628640"/>
            <a:ext cx="8748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男性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患者于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天前开始发热达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感全身不适、乏力、食欲减退、恶心、右上腹部不适，偶尔呕吐，曾按上感和胃病治疗无好转。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周前皮肤出现黄染，尿色较黄，无皮肤搔痒，排便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既往体健。</a:t>
            </a:r>
            <a:br>
              <a:rPr sz="2400"/>
            </a:b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116000" y="260280"/>
            <a:ext cx="705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1" lang="en-US" sz="32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9280" y="2033280"/>
            <a:ext cx="820908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查体：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T 37.5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P 8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R 2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BP 120/75mmHg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皮肤略黄，巩膜黄染，心肺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腹平软，肝肋下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2cm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质软，轻压痛和叩击痛，脾侧位刚及，腹水征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下肢不肿。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化验：血常规正常；尿常规：尿胆红素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 尿胆原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；粪便常规：颜色加深， 隐血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析：该病考虑哪一型黄疸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Verdana"/>
              </a:rPr>
              <a:t>答：肝细胞性黄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黄疸是由于</a:t>
            </a:r>
            <a:r>
              <a:rPr b="0" i="1" lang="zh-CN" sz="2400" spc="-1" strike="noStrike" u="sng">
                <a:solidFill>
                  <a:srgbClr val="ddb523"/>
                </a:solidFill>
                <a:uFillTx/>
                <a:latin typeface="宋体"/>
              </a:rPr>
              <a:t>血清中</a:t>
            </a:r>
            <a:r>
              <a:rPr b="0" i="1" lang="zh-CN" sz="2400" spc="-1" strike="noStrike">
                <a:solidFill>
                  <a:srgbClr val="ddb523"/>
                </a:solidFill>
                <a:latin typeface="宋体"/>
              </a:rPr>
              <a:t>胆红素升高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致使</a:t>
            </a:r>
            <a:r>
              <a:rPr b="0" i="1" lang="zh-CN" sz="2400" spc="-1" strike="noStrike">
                <a:solidFill>
                  <a:srgbClr val="cc00cc"/>
                </a:solidFill>
                <a:latin typeface="宋体"/>
              </a:rPr>
              <a:t>皮肤、黏膜和巩膜发黄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症状和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血清总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T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=2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+8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非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特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22" name="Group 30"/>
          <p:cNvGrpSpPr/>
          <p:nvPr/>
        </p:nvGrpSpPr>
        <p:grpSpPr>
          <a:xfrm>
            <a:off x="-541440" y="4292640"/>
            <a:ext cx="10188720" cy="2443680"/>
            <a:chOff x="-541440" y="4292640"/>
            <a:chExt cx="10188720" cy="2443680"/>
          </a:xfrm>
        </p:grpSpPr>
        <p:grpSp>
          <p:nvGrpSpPr>
            <p:cNvPr id="123" name="Group 7"/>
            <p:cNvGrpSpPr/>
            <p:nvPr/>
          </p:nvGrpSpPr>
          <p:grpSpPr>
            <a:xfrm>
              <a:off x="-541440" y="4446360"/>
              <a:ext cx="9072360" cy="2289960"/>
              <a:chOff x="-541440" y="4446360"/>
              <a:chExt cx="9072360" cy="2289960"/>
            </a:xfrm>
          </p:grpSpPr>
          <p:grpSp>
            <p:nvGrpSpPr>
              <p:cNvPr id="124" name="Group 8"/>
              <p:cNvGrpSpPr/>
              <p:nvPr/>
            </p:nvGrpSpPr>
            <p:grpSpPr>
              <a:xfrm>
                <a:off x="6248880" y="5433480"/>
                <a:ext cx="1312920" cy="842400"/>
                <a:chOff x="6248880" y="5433480"/>
                <a:chExt cx="1312920" cy="842400"/>
              </a:xfrm>
            </p:grpSpPr>
            <p:sp>
              <p:nvSpPr>
                <p:cNvPr id="125" name="Rectangle 9"/>
                <p:cNvSpPr/>
                <p:nvPr/>
              </p:nvSpPr>
              <p:spPr>
                <a:xfrm>
                  <a:off x="6248880" y="5755320"/>
                  <a:ext cx="1312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3300"/>
                      </a:solidFill>
                      <a:latin typeface="Times New Roman"/>
                      <a:ea typeface="黑体"/>
                    </a:rPr>
                    <a:t>黄疸</a:t>
                  </a:r>
                  <a:endParaRPr b="1" lang="en-US" sz="2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"/>
                <p:cNvSpPr/>
                <p:nvPr/>
              </p:nvSpPr>
              <p:spPr>
                <a:xfrm>
                  <a:off x="6937920" y="5433480"/>
                  <a:ext cx="0" cy="40176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" name="Group 11"/>
              <p:cNvGrpSpPr/>
              <p:nvPr/>
            </p:nvGrpSpPr>
            <p:grpSpPr>
              <a:xfrm>
                <a:off x="-541440" y="4446360"/>
                <a:ext cx="9072360" cy="2289960"/>
                <a:chOff x="-541440" y="4446360"/>
                <a:chExt cx="9072360" cy="2289960"/>
              </a:xfrm>
            </p:grpSpPr>
            <p:grpSp>
              <p:nvGrpSpPr>
                <p:cNvPr id="128" name="Group 12"/>
                <p:cNvGrpSpPr/>
                <p:nvPr/>
              </p:nvGrpSpPr>
              <p:grpSpPr>
                <a:xfrm>
                  <a:off x="577440" y="5473440"/>
                  <a:ext cx="1839960" cy="1262880"/>
                  <a:chOff x="577440" y="5473440"/>
                  <a:chExt cx="1839960" cy="1262880"/>
                </a:xfrm>
              </p:grpSpPr>
              <p:sp>
                <p:nvSpPr>
                  <p:cNvPr id="129" name="Rectangle 13"/>
                  <p:cNvSpPr/>
                  <p:nvPr/>
                </p:nvSpPr>
                <p:spPr>
                  <a:xfrm>
                    <a:off x="577440" y="5789160"/>
                    <a:ext cx="183996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600" spc="-1" strike="noStrike">
                        <a:solidFill>
                          <a:srgbClr val="046ca6"/>
                        </a:solidFill>
                        <a:latin typeface="黑体"/>
                        <a:ea typeface="黑体"/>
                      </a:rPr>
                      <a:t>   </a:t>
                    </a:r>
                    <a:r>
                      <a:rPr b="1" lang="zh-CN" sz="26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  </a:t>
                    </a: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正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" name="Line 14"/>
                  <p:cNvSpPr/>
                  <p:nvPr/>
                </p:nvSpPr>
                <p:spPr>
                  <a:xfrm flipH="1">
                    <a:off x="1929960" y="5473440"/>
                    <a:ext cx="21600" cy="40284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1" name="Group 15"/>
                <p:cNvGrpSpPr/>
                <p:nvPr/>
              </p:nvGrpSpPr>
              <p:grpSpPr>
                <a:xfrm>
                  <a:off x="3307680" y="5473440"/>
                  <a:ext cx="1951560" cy="817200"/>
                  <a:chOff x="3307680" y="5473440"/>
                  <a:chExt cx="1951560" cy="817200"/>
                </a:xfrm>
              </p:grpSpPr>
              <p:sp>
                <p:nvSpPr>
                  <p:cNvPr id="132" name="Rectangle 16"/>
                  <p:cNvSpPr/>
                  <p:nvPr/>
                </p:nvSpPr>
                <p:spPr>
                  <a:xfrm>
                    <a:off x="3307680" y="5770080"/>
                    <a:ext cx="1951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Times New Roman"/>
                        <a:ea typeface="黑体"/>
                      </a:rPr>
                      <a:t>隐性黄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3" name="Line 17"/>
                  <p:cNvSpPr/>
                  <p:nvPr/>
                </p:nvSpPr>
                <p:spPr>
                  <a:xfrm>
                    <a:off x="4190400" y="5473440"/>
                    <a:ext cx="0" cy="40176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-541440" y="4446360"/>
                  <a:ext cx="9072360" cy="1158480"/>
                  <a:chOff x="-541440" y="4446360"/>
                  <a:chExt cx="9072360" cy="1158480"/>
                </a:xfrm>
              </p:grpSpPr>
              <p:grpSp>
                <p:nvGrpSpPr>
                  <p:cNvPr id="135" name="Group 19"/>
                  <p:cNvGrpSpPr/>
                  <p:nvPr/>
                </p:nvGrpSpPr>
                <p:grpSpPr>
                  <a:xfrm>
                    <a:off x="965520" y="4446360"/>
                    <a:ext cx="7565400" cy="1158480"/>
                    <a:chOff x="965520" y="4446360"/>
                    <a:chExt cx="7565400" cy="1158480"/>
                  </a:xfrm>
                </p:grpSpPr>
                <p:grpSp>
                  <p:nvGrpSpPr>
                    <p:cNvPr id="136" name="Group 20"/>
                    <p:cNvGrpSpPr/>
                    <p:nvPr/>
                  </p:nvGrpSpPr>
                  <p:grpSpPr>
                    <a:xfrm>
                      <a:off x="1064520" y="4961880"/>
                      <a:ext cx="7466400" cy="642960"/>
                      <a:chOff x="1064520" y="4961880"/>
                      <a:chExt cx="7466400" cy="642960"/>
                    </a:xfrm>
                  </p:grpSpPr>
                  <p:sp>
                    <p:nvSpPr>
                      <p:cNvPr id="137" name="AutoShape 21"/>
                      <p:cNvSpPr/>
                      <p:nvPr/>
                    </p:nvSpPr>
                    <p:spPr>
                      <a:xfrm>
                        <a:off x="1064520" y="4961880"/>
                        <a:ext cx="7466400" cy="642960"/>
                      </a:xfrm>
                      <a:custGeom>
                        <a:avLst/>
                        <a:gdLst>
                          <a:gd name="textAreaLeft" fmla="*/ 0 w 7466400"/>
                          <a:gd name="textAreaRight" fmla="*/ 7466760 w 7466400"/>
                          <a:gd name="textAreaTop" fmla="*/ 0 h 642960"/>
                          <a:gd name="textAreaBottom" fmla="*/ 642960 h 642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0144" y="0"/>
                            </a:lnTo>
                            <a:lnTo>
                              <a:pt x="21600" y="10800"/>
                            </a:lnTo>
                            <a:lnTo>
                              <a:pt x="20144" y="21600"/>
                            </a:ln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9360">
                        <a:solidFill>
                          <a:srgbClr val="046ca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99"/>
                            </a:solidFill>
                            <a:latin typeface="黑体"/>
                            <a:ea typeface="黑体"/>
                          </a:rPr>
                          <a:t>血    清   胆    红    素    浓    度</a:t>
                        </a: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8" name="Line 22"/>
                      <p:cNvSpPr/>
                      <p:nvPr/>
                    </p:nvSpPr>
                    <p:spPr>
                      <a:xfrm>
                        <a:off x="3211920" y="4963320"/>
                        <a:ext cx="0" cy="641520"/>
                      </a:xfrm>
                      <a:prstGeom prst="line">
                        <a:avLst/>
                      </a:prstGeom>
                      <a:ln w="572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9" name="Line 23"/>
                      <p:cNvSpPr/>
                      <p:nvPr/>
                    </p:nvSpPr>
                    <p:spPr>
                      <a:xfrm>
                        <a:off x="6062040" y="4961880"/>
                        <a:ext cx="0" cy="641520"/>
                      </a:xfrm>
                      <a:prstGeom prst="line">
                        <a:avLst/>
                      </a:prstGeom>
                      <a:ln w="8892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40" name="Rectangle 24"/>
                    <p:cNvSpPr/>
                    <p:nvPr/>
                  </p:nvSpPr>
                  <p:spPr>
                    <a:xfrm>
                      <a:off x="5731920" y="4446360"/>
                      <a:ext cx="1041840" cy="550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4. 2</a:t>
                      </a:r>
                      <a:endParaRPr b="1" lang="en-US" sz="3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41" name="Group 25"/>
                    <p:cNvGrpSpPr/>
                    <p:nvPr/>
                  </p:nvGrpSpPr>
                  <p:grpSpPr>
                    <a:xfrm>
                      <a:off x="965520" y="4446360"/>
                      <a:ext cx="2857320" cy="971280"/>
                      <a:chOff x="965520" y="4446360"/>
                      <a:chExt cx="2857320" cy="971280"/>
                    </a:xfrm>
                  </p:grpSpPr>
                  <p:sp>
                    <p:nvSpPr>
                      <p:cNvPr id="142" name="Rectangle 26"/>
                      <p:cNvSpPr/>
                      <p:nvPr/>
                    </p:nvSpPr>
                    <p:spPr>
                      <a:xfrm>
                        <a:off x="2781000" y="4446360"/>
                        <a:ext cx="1041840" cy="55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000" spc="-1" strike="noStrike">
                            <a:solidFill>
                              <a:srgbClr val="ff0000"/>
                            </a:solidFill>
                            <a:latin typeface="黑体"/>
                            <a:ea typeface="黑体"/>
                          </a:rPr>
                          <a:t>17. 1</a:t>
                        </a:r>
                        <a:endParaRPr b="1" lang="en-US" sz="30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3" name="Text Box 27"/>
                      <p:cNvSpPr/>
                      <p:nvPr/>
                    </p:nvSpPr>
                    <p:spPr>
                      <a:xfrm flipH="1">
                        <a:off x="965520" y="4531680"/>
                        <a:ext cx="1946880" cy="885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600" spc="-1" strike="noStrike">
                            <a:solidFill>
                              <a:srgbClr val="ffcc00"/>
                            </a:solidFill>
                            <a:latin typeface="黑体"/>
                            <a:ea typeface="黑体"/>
                          </a:rPr>
                          <a:t>1.7</a:t>
                        </a: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sp>
                <p:nvSpPr>
                  <p:cNvPr id="144" name="Rectangle 28"/>
                  <p:cNvSpPr/>
                  <p:nvPr/>
                </p:nvSpPr>
                <p:spPr>
                  <a:xfrm>
                    <a:off x="-541440" y="4975560"/>
                    <a:ext cx="1662480" cy="4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45" name="Text Box 29"/>
            <p:cNvSpPr/>
            <p:nvPr/>
          </p:nvSpPr>
          <p:spPr>
            <a:xfrm>
              <a:off x="6659640" y="4292640"/>
              <a:ext cx="29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ddb523"/>
                  </a:solidFill>
                  <a:latin typeface="黑体"/>
                  <a:ea typeface="黑体"/>
                </a:rPr>
                <a:t>(μmol/L)</a:t>
              </a:r>
              <a:endParaRPr b="1" lang="en-US" sz="32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分生理性和病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假性黄疸</a:t>
            </a: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用胡萝卜、南瓜、橘子等过多，出现胡萝卜素血症，皮肤黄染，但巩膜不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3" descr="ANd9GcQL2J1pbl6aph5rXC7ZiDAXaCNqIyO8EuoELojpmqcObVk4uqYtIg"/>
          <p:cNvPicPr/>
          <p:nvPr/>
        </p:nvPicPr>
        <p:blipFill>
          <a:blip r:embed="rId1"/>
          <a:stretch/>
        </p:blipFill>
        <p:spPr>
          <a:xfrm>
            <a:off x="5219640" y="476280"/>
            <a:ext cx="358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50" name="Picture 2" descr="胆红素正常代谢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700360" y="623736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胆红素正常代谢示意图</a:t>
            </a:r>
            <a:br>
              <a:rPr sz="24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419640" y="2421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Arial"/>
              </a:rPr>
              <a:t>由血清蛋白转运</a:t>
            </a:r>
            <a:endParaRPr b="1" lang="en-US" sz="1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4221000"/>
            <a:ext cx="266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生成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运输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代谢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25748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01600" y="1699920"/>
            <a:ext cx="8569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溶血性黄疸：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由于红细胞破坏过多，形成大量的非结合胆红素超过肝的处理能力，导致血中</a:t>
            </a:r>
            <a:r>
              <a:rPr b="0" lang="zh-CN" sz="28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非结合胆红素增高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而引起的黄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3" descr="cells"/>
          <p:cNvPicPr/>
          <p:nvPr/>
        </p:nvPicPr>
        <p:blipFill>
          <a:blip r:embed="rId1"/>
          <a:stretch/>
        </p:blipFill>
        <p:spPr>
          <a:xfrm>
            <a:off x="5867280" y="4149720"/>
            <a:ext cx="2987640" cy="2133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486320" y="1092240"/>
            <a:ext cx="14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2:12:24Z</dcterms:created>
  <dc:creator>微软用户</dc:creator>
  <dc:description/>
  <cp:keywords/>
  <dc:language>en-US</dc:language>
  <cp:lastModifiedBy>赵欣</cp:lastModifiedBy>
  <cp:lastPrinted>1899-12-30T00:00:00Z</cp:lastPrinted>
  <dcterms:modified xsi:type="dcterms:W3CDTF">2015-12-16T08:10:49Z</dcterms:modified>
  <cp:revision>38</cp:revision>
  <dc:subject/>
  <dc:title>第十一节黄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